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FCE8-0680-4E55-AE38-8DF1BCEF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A50A-61AD-4CBA-A5A2-B82D6FAD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03AC65-B15A-45D9-BA10-CF9C34A6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78B99-5832-484F-91F2-B814F07E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B8E92-FD2F-45E6-AD0D-A722769F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3FEF6-F74C-4767-AD57-4F5AC55C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A9B70-3EDC-4742-8792-C79DC4AF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B5202-E6DB-4D7A-8219-67028F0B0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C90643-1A88-4483-8948-0A05636D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07D19-1A16-4024-8DCA-226BA386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91FEA-086C-4D31-8517-B8C43CA2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65C40-835C-4FAD-8FB8-B2E4EE70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99E3-4A02-426C-9EEF-B475C6F1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1C96E1-FE0D-4C91-B4AD-9D6859115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872AD-32AD-4E7B-A546-271DAC57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3CD39-4F23-400D-A641-CB0B27C1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40219-8559-461E-9B79-15E7D871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1D082-1165-4A72-AB3A-B73B1036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DBC1C-1980-4897-86F0-57CC88B4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FAA075-8661-4380-B9EB-8454124E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61FFA-747E-4A31-8D86-71649AF4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907E05-C0A4-42EF-ABEE-D283426D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2B8FBB-23CF-4C39-8154-13D2992DD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B8CC-8864-4D60-A02E-3550D33F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AE38C-A4B5-4C0C-A749-DE92AE83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8CC7A-599E-4EF5-9F4C-34EE2BA7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B4024-37F8-4D1A-ADAB-A9E241B04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D6E7A-0B2E-4B8D-ACE0-4201A6FF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9C10B-CB70-4CE9-BE65-DD36B037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F776A6-863F-483D-A0AC-19073CAE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EFB71-FE5F-4F83-91F4-9E8D28D0B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E935D-921D-4DE9-A82A-C7A96E74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691F2B-4517-4D7C-ACE8-DBD0B1A7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DF5964-FAF7-45C2-9E2F-1487908D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3669F-810C-47B9-B2F5-A2628B3F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3AA2D-EB8A-4BC4-8ADC-14D6F7276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22D6E7-B5DB-41C4-A2AA-5FCCC5FF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42608-658B-408D-AC69-5E1A48CC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83C75-E4DD-4560-8409-83709D6E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98BF2-2963-4C8A-99A7-2F897290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C2681-2E41-400B-A463-B844A97B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E6097-1CA1-426E-B13F-7E9A7498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33521E-71AB-4742-8F9B-C8542C27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75236-378E-4D2A-9FEF-7DEB9B6A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81045F-D079-43FD-9244-5ACDFEF4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7910C-AEE8-4EF9-9AE3-178F4C97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70064D-2BD1-4AD1-ADE4-032CD9FF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BF52B-70B5-495B-8CE6-5B6D2647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52E3C-7482-4316-8291-CDE0300C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90040-0E84-4103-9012-BA84171E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EED70-D73C-4FD9-BD06-76832D875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24FBFE-4D91-4EDE-82BA-25EEF156F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C902FB-552A-47DC-B52F-14318A63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06B275-3FD8-4CFC-9CA0-7DEBD764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461C5E-E897-47A6-B328-16D9CD89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3F5577-950D-4A8F-A3A6-D8ACA9F4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9873BB-0675-484E-BC05-92CA944E8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41E4A7-E2A1-41C6-A7F8-1326C4A91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8A6978-70EC-4A05-94DF-F512D709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B48ECF-0BCB-4DE9-8F60-F92F7A71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7E05A0-E71A-4025-B9D2-6F4AC9BC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51616E-5C24-4688-ACC3-AF9DFCA4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CA5060-0C36-426C-BAD8-4BB412FF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B3D85C-9C40-4D11-9551-1E933A8C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310540-EEAD-4FDB-B159-C7B73F52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2FA7D4-F082-4AE8-9353-C49E5DD0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7848EF-9286-4DCD-83C1-448652E9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F82DF-0612-43E6-AB0A-58CFB6BE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0A7807-5FC5-45FE-BD9F-125AE4FD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DFFE2A-E7B6-4AC0-BDBF-DF6A35B5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5EB806-A718-4BBE-A446-2C3D1710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9DE601-F57A-4AEE-8C7B-1038A584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28A7AC-3AE3-4CA2-A880-4BC1D33B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46D1AE-2264-4A18-8C4B-C68067BD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2FBD14-9D1B-48C9-9D7C-CFF7199F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EF4C8E-0FBC-4469-A650-E558A3E6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134EFF-857E-43D8-A899-7DAA3B77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825D1F-9378-4AD7-A20B-A516DF4D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ACCFB-BFF1-4A68-88B4-19A0AD85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C54538-6F67-4F1F-97CB-65E8F9A1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14AB2B-03C1-48DE-845B-D3F2D5EB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21317E-AC70-40DF-B929-DA656200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C45B6D-D282-4458-88B9-21EDDB8A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DFDBF3-A3E6-4B08-8AB0-B0708E9B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C2ADAC-2EF3-4681-A5AD-FD57B9BD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3D25EC-58CD-48CD-91BA-58FCB099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753366-CC4C-444D-B25F-C1DF6F99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173D4D-307A-4479-B82C-3A49A62D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93DD50-64D1-4257-A4CF-5A5BCE07E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098469-93BE-4E02-853D-23475F72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00F771-E474-4FB8-A053-8D2680CAF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D08DC4-2AE5-432E-8D5F-BAA7C163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0C392E-BA6A-4360-874C-7EB87E7E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24D2EA-0E04-4939-B5A2-4BED0040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77B0B8-7C9B-4C09-8ACF-241716C0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FE043E-9D37-4857-9FE2-86C24909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DFDB17-E0A5-49FE-85AC-1CFA09A7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94C2C0-B7B2-4248-A97F-157FA6DB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A2E339-C536-4386-BA36-627A0442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441A6B-C53E-49B6-B8D0-BEC835AC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34F68-0E05-4784-BA15-37D09C38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8BCD0A-EA07-43C4-A3E1-A780BF61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9E03CB-E5D1-4041-8422-C381180B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F6BCB4-D7E0-436B-92BE-A8691B8EB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5FE354-C0E8-4976-9E85-5439C645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354A15-4CC5-402E-A25B-40A59B4B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9B917E-1673-4553-9DC0-D7F86FC8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98144E-A7C6-474D-9779-6A3F55BD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FA11C1-CDE7-4308-BB0A-30BF616A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806B8B-5AD7-4D3B-93BD-C488342F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BA2417-BC59-4FB9-A813-5399D8E3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B4CC-6B9B-4134-9A7C-62E11A60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1C8AC7-47E7-4258-AE09-D9FD8229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3E1443-06D3-43C2-88F5-95C60AB0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D2AED1-ED3F-4186-B596-07927790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32EAC2-0622-4734-A360-01EEEBF9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0F1F15-3909-4A97-9F06-2FC9B84AF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05908A-AA8A-4F69-B497-6574C538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A9718-6F2F-4F9A-82F9-506173A2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7A03B-A997-4927-807E-B6A52A61C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66B69-D81C-4A38-840A-568A8EE6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1E86BE-D001-4991-A2BF-EA4E248B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1742E-A893-47DE-8BA1-3503C657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0937A-DF98-481A-99A0-559ED492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D3C99-3684-403B-B94E-C68ED20A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52359-BD92-4C8E-B08B-BC3712D8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9AF6A-D5F2-4B04-BAE9-1EBE3084F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A42C-5AA4-4AE4-8BA1-A478DF36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7B184-2A27-4674-B03F-77A1B94A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E8D14-E89B-41FA-BAAC-F757D6CE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39045-7999-4E3E-BF37-D9FF7347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951C9-22E8-4830-9902-59556F3C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86134F-35E1-4285-A050-6F1E7F6F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883C1-131C-4B00-A9CD-18C6C4F7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4D1EF-42D0-4A04-A524-97C23EBC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E369F-0185-47C0-91AC-0B328864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7B621-4359-4850-ADB8-D9C4441E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6A6B2-62D0-492C-B0CA-E2224A7B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33A4-FA2E-4018-AC73-0260BB9B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1A259-A319-4374-A55E-03ED108BB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B11C1-FF5C-4D80-836B-755F2ABB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47EDA-0099-4003-ABBB-D6EFA393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11A3C-3544-4F26-A62D-9FEA8B54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BD273-B1B4-4AF1-B81F-17245AE6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C688B-6AE6-45E9-A07F-0F4AA283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0E861-273A-42E6-B91A-FA5214AF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A58C3-8F37-4520-A147-01814E1D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00AB7-DEE0-4226-9DD4-F8DABA989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0598C-6CF3-43EA-953D-1A98E64BB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E5D3-412C-4CC2-9ACC-1E19FF95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D621A-9AB4-4D2F-BD31-C98C4277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1FEDF-5A84-452C-BE09-9D0115CB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DB14F-76A8-4BD7-A79B-5D5E4921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43798-A1F1-46B1-BBD8-97F0BB9C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BD07D-062F-477A-A668-10279158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65EF4-E692-4327-AF4D-814CD28DD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8302F-4141-4614-8377-9B8493BD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543EC-05F7-480F-91AA-484B7656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75844-D594-4264-9F5E-4AD42071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696B4-D6C1-49CF-971C-E4000AAF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37E0-4CF5-4229-AB3C-8E52F621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3FC55-E24A-4C2C-A530-D0DFD27F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3997F-5F7F-477E-8B5D-6DACD0744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2E5906-4BFB-404F-A375-5C4E8770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13B2D-0AF8-4E1F-8EF3-E124CBEA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2D2F1-326D-4B03-91D3-5146C707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DAE5E-258C-4BB7-BC4C-9D1A0E8C1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36FDE-15C6-4864-AA89-CDA00B18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139D3-83F6-460F-B8F4-8E816400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1944B-8B95-464D-8332-22CA6EAE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2F4B0-0161-43E3-B9A9-24EAD7D0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343D-9A7B-48FB-AFC1-A29FE5B7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B1745-D32D-4042-8BA4-AD26C507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740F5-C5AF-45F0-AD03-CD3CE1FB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DB565-410E-40F8-9387-A806B19A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FC299-A975-431C-8FA7-D19B4BD25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C3F0C-F33B-4EFA-8178-9CB78D9C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E8D38-55E8-4F21-A67A-0D70A062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636F7-0457-4D99-B3C0-3D14F0A3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D957C-BA92-4C88-8E0C-C9BAA2C8D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4662F-5ED0-4E99-A9FD-D2A0EEC6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285FB-2882-4C8E-B56C-181F83CA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535F-33DD-4A0C-B665-CB56E563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C943ED-F34E-4099-8072-07D08FF1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7E0FF2-685B-465C-9CEE-26C99C2E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0964F-0FFB-4047-960E-98DD3754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AD6C1-FF50-4894-87A0-0B2F42AE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1479E3-86D1-4374-9A7A-D8926440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E87FA-FE0C-4244-8391-548888C89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FD868-0AD1-4792-9CDB-4C01DEF5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DFEF6-663D-4465-8B55-56756938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E3DFB-8592-4F3E-903C-58DD8216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5CA12-7EB6-4C7B-A564-24369ADC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12C0-3B70-4C90-A858-7FA02988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8D736-5F9F-4E0D-AD95-FF64DF49B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7A43BD-FC8A-4040-BFF6-8EDFFE0A4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59106-0ACC-4BB1-BC9D-7D6E2EB8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7EF9D-FEAC-43AF-AA24-12A37131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67E52-3759-4904-B1FB-CDA2699A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71B777-29B0-4996-B253-9CFF7F28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80FB9A-AAED-4195-9755-DB059D935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6E78A3-A90D-4730-AC1E-3ED6484E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6A84C-3BE0-4D9D-8798-0821CEE0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9F7E4-7D69-451A-8277-22453633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7E6136-7221-4CD8-8D9F-37D75E371C2D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8AFE96-2A06-481E-936B-967AD1835FA9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91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82F2B1-0212-4051-8720-FA5F9ED9E947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F53336-924E-4DA0-ACF5-1DC20941135F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4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E4F6A2-85FB-4BCC-9A59-3233E12CD36B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08C949-2EAB-47ED-91C7-711702827B90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77" name="Picture 8" descr="Overlay-ContentCaption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58E40-46B5-4F3E-A6DC-F90B65DD32F6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2BB89A-D65C-458E-997F-6E74B8ACC41A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20" name="Picture 8" descr="Overlay-PictureCaption.png"/>
          <p:cNvPicPr/>
          <p:nvPr/>
        </p:nvPicPr>
        <p:blipFill>
          <a:blip r:embed="rId2"/>
          <a:stretch/>
        </p:blipFill>
        <p:spPr>
          <a:xfrm>
            <a:off x="449280" y="187200"/>
            <a:ext cx="8535960" cy="64836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388584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50A3AC-83AD-45B4-904A-64818C6CAAF6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5866920" y="6288120"/>
            <a:ext cx="267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E14A3B-A63A-4B4F-90A9-7BFFDF0A3F56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63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8557D2-9B41-446F-97A2-BBDF933FD0FB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66A443-81B2-4C6F-B04A-C8034A16F9B1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06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E8A3E7-3B21-403A-91A9-94139D52A2B7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CB32F6-5EF8-4240-80D5-05C8EED89263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49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376540-EAD5-4C14-8E1F-AFBBAAD43BDA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CE870A-A915-49BF-A874-4C26D82EBF06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69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4DB681-D323-4A41-A4F6-6DC0E2204533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5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5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209144-664A-446D-B4BA-C55A186C72E4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3" name="Picture 8" descr="Overlay-TitleSlide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FE2C99-9A2B-49B6-8523-3B981BFE7C1F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A06D8-D2C3-462D-A353-EBEF3B404A45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6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4903A8-E60F-49B3-81FD-893010CF36D2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41796B-3162-4DB6-8AD6-EE39BC4DDC0C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9" name="Picture 8" descr="Overlay-SectionHeader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49AF66-0730-42FB-A69B-95EACB649F20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5C68FE-40B4-4BC5-AF69-2299F587AA4E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7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D8911B-212E-4439-ABFD-F7BCF383893C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C8351F-AA58-4157-B6D7-F3CA09CCFB10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9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Straight Connector 10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Straight Connector 12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A3AEF-1F98-4C14-86FC-E63AE044E4E2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E0504A-413F-4A85-9300-52465CD059F6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874E16-4A8B-4A51-8B0D-5C3CC9F2A06B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96ABBD-E097-4057-BD70-05814A21373A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CB178-D739-4901-8764-7B3D91A12A30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32AD5D-42F9-453A-A03F-6B2AED2564C4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48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46F991-7AED-4B89-9106-DA2C3879909A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5138B3-B019-4FAD-8E44-18954C7E75FA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dc.gov/malaria" TargetMode="External"/><Relationship Id="rId2" Type="http://schemas.openxmlformats.org/officeDocument/2006/relationships/hyperlink" Target="http://www.who.org/diseases/malariainfo" TargetMode="External"/><Relationship Id="rId3" Type="http://schemas.openxmlformats.org/officeDocument/2006/relationships/hyperlink" Target="http://www.webmd.com/conditions/malaria" TargetMode="External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-457560" y="1066680"/>
            <a:ext cx="67626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rebuchet MS"/>
              </a:rPr>
              <a:t>Malaria</a:t>
            </a:r>
            <a:endParaRPr b="0" lang="en-US" sz="6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-457560" y="2895120"/>
            <a:ext cx="6762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By Mr. Shanno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36" name="Picture 3" descr="malaria-sick-child.jpg"/>
          <p:cNvPicPr/>
          <p:nvPr/>
        </p:nvPicPr>
        <p:blipFill>
          <a:blip r:embed="rId1"/>
          <a:stretch/>
        </p:blipFill>
        <p:spPr>
          <a:xfrm>
            <a:off x="838080" y="3990960"/>
            <a:ext cx="3005280" cy="202896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4" descr="62-malaria---mosquito.jpg"/>
          <p:cNvPicPr/>
          <p:nvPr/>
        </p:nvPicPr>
        <p:blipFill>
          <a:blip r:embed="rId2"/>
          <a:stretch/>
        </p:blipFill>
        <p:spPr>
          <a:xfrm>
            <a:off x="4910040" y="3952800"/>
            <a:ext cx="3132360" cy="20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alaria: Symptoms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ypical symptoms of malaria include fever, chills, vomiting, and anemia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re cases of malaria can occur quickly (over the course of a few days) and even result in death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alaria: Transmission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Malaria is transmitted by certain types of mosquitoes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nfected mosquitoes bite people and pass on the malaria parasite into the human’s bloodstream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e parasite then lives and reproduces in the liver and red blood cells of the infected person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42" name="Picture 3" descr="62-malaria---mosquito.jpg"/>
          <p:cNvPicPr/>
          <p:nvPr/>
        </p:nvPicPr>
        <p:blipFill>
          <a:blip r:embed="rId1"/>
          <a:stretch/>
        </p:blipFill>
        <p:spPr>
          <a:xfrm>
            <a:off x="3632040" y="4800600"/>
            <a:ext cx="25578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alaria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alaria sickness is caused by the malaria parasite, a tiny one-celled animal known as a “protist.”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ere are four species of the malaria parasite: </a:t>
            </a:r>
            <a:r>
              <a:rPr b="0" i="1" lang="en-US" sz="2200" spc="-1" strike="noStrike">
                <a:solidFill>
                  <a:srgbClr val="ffffff"/>
                </a:solidFill>
                <a:latin typeface="Trebuchet MS"/>
              </a:rPr>
              <a:t>Plasmodium falciparum, Plasmodium vivax, Plasmodium ovale, 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and </a:t>
            </a:r>
            <a:r>
              <a:rPr b="0" i="1" lang="en-US" sz="2200" spc="-1" strike="noStrike">
                <a:solidFill>
                  <a:srgbClr val="ffffff"/>
                </a:solidFill>
                <a:latin typeface="Trebuchet MS"/>
              </a:rPr>
              <a:t>Plasmodium malariae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rebuchet MS"/>
              </a:rPr>
              <a:t>Plasmodium falciparum 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is by far the most common type of malaria parasite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alaria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46" name="Content Placeholder 3" descr="Malaria.jpg"/>
          <p:cNvPicPr/>
          <p:nvPr/>
        </p:nvPicPr>
        <p:blipFill>
          <a:blip r:embed="rId1"/>
          <a:srcRect l="-48467" t="0" r="-48467" b="0"/>
          <a:stretch/>
        </p:blipFill>
        <p:spPr>
          <a:xfrm>
            <a:off x="3657600" y="1425600"/>
            <a:ext cx="5907240" cy="4208400"/>
          </a:xfrm>
          <a:prstGeom prst="rect">
            <a:avLst/>
          </a:prstGeom>
          <a:ln w="0">
            <a:noFill/>
          </a:ln>
        </p:spPr>
      </p:pic>
      <p:sp>
        <p:nvSpPr>
          <p:cNvPr id="747" name="TextBox 4"/>
          <p:cNvSpPr/>
          <p:nvPr/>
        </p:nvSpPr>
        <p:spPr>
          <a:xfrm>
            <a:off x="1066680" y="242892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s is a photograph taken with a microscope of the malaria parasite swimming through the cytoplasm of a cell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alaria: Prevalence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9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alaria is most common in developing countries in which many poor people live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alaria is also common in tropical climates along the equator, as these are the best for the mosquitoes that carry the parasite to live in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e most cases of malaria are seen on the continent of Africa, but malaria is also very common in Mexico, India, China, and Southeast Asia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alaria: Treatmen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Malaria can be prevented by taking drugs such as lariam and mephloquine, which kill the parasite if a person is bitten by an infected mosquito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ese drugs can also be used to treat malaria once a person is already infected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Other methods of preventing transmission of malaria include the use of bed nets, which keep sleeping people from being bitten at night by mosquitoes carrying the parasite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Analysis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e best way to solve the problem of malaria is to focus on prevention strategies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In other words, it is much easier to prevent people from getting malaria than to treat it once they have it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Prevention strategies include the use of bed nets to prevent mosquito bites, the use of drugs </a:t>
            </a:r>
            <a:r>
              <a:rPr b="0" i="1" lang="en-US" sz="2200" spc="-1" strike="noStrike">
                <a:solidFill>
                  <a:srgbClr val="ffffff"/>
                </a:solidFill>
                <a:latin typeface="Trebuchet MS"/>
              </a:rPr>
              <a:t>before </a:t>
            </a: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getting malaria, and the draining of shallow areas of water where mosquitoes breed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Resources: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abf24d"/>
                </a:solidFill>
                <a:uFillTx/>
                <a:latin typeface="Trebuchet MS"/>
                <a:hlinkClick r:id="rId1"/>
              </a:rPr>
              <a:t>www.cdc.gov/malaria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abf24d"/>
                </a:solidFill>
                <a:uFillTx/>
                <a:latin typeface="Trebuchet MS"/>
                <a:hlinkClick r:id="rId2"/>
              </a:rPr>
              <a:t>www.who.org/diseases/malariainfo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abf24d"/>
                </a:solidFill>
                <a:uFillTx/>
                <a:latin typeface="Trebuchet MS"/>
                <a:hlinkClick r:id="rId3"/>
              </a:rPr>
              <a:t>www.webmd.com/conditions/malaria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7:27:54Z</dcterms:created>
  <dc:creator>Eric Shannon</dc:creator>
  <dc:description/>
  <dc:language>en-US</dc:language>
  <cp:lastModifiedBy>Eric Shannon</cp:lastModifiedBy>
  <dcterms:modified xsi:type="dcterms:W3CDTF">2010-02-28T18:10:45Z</dcterms:modified>
  <cp:revision>2</cp:revision>
  <dc:subject/>
  <dc:title>Malaria</dc:title>
</cp:coreProperties>
</file>